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214E46-6EDB-45AB-A927-F6544F9D0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26A7B4-E503-43BF-9F9E-E2A756F59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43AC80B-E418-4706-BF80-D43142282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9C6141F-1645-4E55-87AB-1A1DC702A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BF6E7-1A43-4773-B65D-B726EB0C8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8AA3F-21ED-4597-B308-9CABA848F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5C766-C85E-4C9B-8B43-F3CE70CAE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47B99-AEAC-47C4-819B-77195916C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88FEB-1877-46BB-B706-FC016EA40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22ACC-05FD-4FB8-B90C-00861F8E6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DF24-DCB3-4000-892A-FDE37677B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0E4262-2628-4C1A-BE8B-0AF2EA14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8026E-9151-4773-B84F-E7AF4338A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C5774-477B-4BEA-BA6D-C34CFD4C3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A9A7E-C301-4F73-9CCE-0A3D87919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74137-7B15-4446-B245-19C28DEEB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8563E-1552-4D45-A9B0-5D921ACD9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EB25E4-9004-49D2-83C1-87EA81B18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EE2BFA-216D-4CE5-B29E-1B9E4275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EEDB16-09CC-4F65-9C56-6245CCF73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567583-9468-41D5-8292-1392F1722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530F6C-2FDA-4A14-A115-D18EB73B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D5C1E5-9C53-4E7A-8EDB-6AC0CE868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B93E35-2B80-43CF-8FB2-2F0D2FD8E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2311-E071-42DA-996A-A17FFC3FFC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D093-E8EC-4AD1-A421-AB32C9DF17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fidguardian.org/"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Wireless Method For Monitoring Medication Compliance</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hesis by</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ffrey S. Jona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 Manikopoulos, advisor</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grate new technologi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reless networks are small and easy to integrate, and come in all sizes (WAN, PA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S enables accurate, continuous monitoring of things that were previously unobservable.  Closed loop control systems can now be applied to medic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lemedicine integrates many inputs</a:t>
            </a:r>
            <a:endParaRPr b="1" lang="en-US" sz="40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 descr=""/>
          <p:cNvPicPr/>
          <p:nvPr/>
        </p:nvPicPr>
        <p:blipFill>
          <a:blip r:embed="rId1"/>
          <a:stretch/>
        </p:blipFill>
        <p:spPr>
          <a:xfrm>
            <a:off x="457200" y="1600200"/>
            <a:ext cx="3456000" cy="4572000"/>
          </a:xfrm>
          <a:prstGeom prst="rect">
            <a:avLst/>
          </a:prstGeom>
          <a:ln w="0">
            <a:noFill/>
          </a:ln>
        </p:spPr>
      </p:pic>
      <p:pic>
        <p:nvPicPr>
          <p:cNvPr id="128" name="" descr=""/>
          <p:cNvPicPr/>
          <p:nvPr/>
        </p:nvPicPr>
        <p:blipFill>
          <a:blip r:embed="rId2"/>
          <a:stretch/>
        </p:blipFill>
        <p:spPr>
          <a:xfrm>
            <a:off x="3886200" y="1600200"/>
            <a:ext cx="481824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buzz</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is the "next big thing" for inventory tracking.  The pharmaceutical industry is exploring RFID to thwart counterfeiting, in addition to U.S. government mandates.</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VS’ “Jump Start” RFID trial was coordinated with the AUTO-ID Center with HIPAA and privacy concerns from the star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Drug Counterfeiting</a:t>
            </a:r>
            <a:endParaRPr b="1" lang="en-US" sz="6000" spc="-1" strike="noStrike">
              <a:solidFill>
                <a:srgbClr val="e5e5ff"/>
              </a:solidFill>
              <a:latin typeface="Garamond"/>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 descr=""/>
          <p:cNvPicPr/>
          <p:nvPr/>
        </p:nvPicPr>
        <p:blipFill>
          <a:blip r:embed="rId1"/>
          <a:stretch/>
        </p:blipFill>
        <p:spPr>
          <a:xfrm>
            <a:off x="1143000" y="1676520"/>
            <a:ext cx="6721560" cy="471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or Research</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Magic medicine Cabine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nneth Fishkin’s work at Intel Research Seattle: exploring man/machine interface with UbiComp, RFID (linking physical objects to the virtual word), RFID privacy, eldercare, RFID in healthcare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ishkin Medicine Monitoring Pad</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38" name="" descr=""/>
          <p:cNvPicPr/>
          <p:nvPr/>
        </p:nvPicPr>
        <p:blipFill>
          <a:blip r:embed="rId1"/>
          <a:stretch/>
        </p:blipFill>
        <p:spPr>
          <a:xfrm>
            <a:off x="2666880" y="1523880"/>
            <a:ext cx="3884760" cy="457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ototyp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ified Candy Dispens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s COTS par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nsmitters may be similar to wireless mice, keyboards, game controll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KE (Remote Keyless Entry) fobs offer a variety of securit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totype #2</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illbox was modified to detect pills in 3 different wa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witc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lective optical senso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electric ey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 modes of operation</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nsors are monitored by a PIC 18f252 microcontroller.</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ng a cellular phone to the RS232 port enables stand-alone operation by transmitting change of container status via SMS (text message)</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wired or wireless connection to a PC is also supported for data collection and forward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totype demonstrat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47" name="" descr=""/>
          <p:cNvPicPr/>
          <p:nvPr/>
        </p:nvPicPr>
        <p:blipFill>
          <a:blip r:embed="rId1"/>
          <a:stretch/>
        </p:blipFill>
        <p:spPr>
          <a:xfrm>
            <a:off x="914400" y="2666880"/>
            <a:ext cx="2741760" cy="2162160"/>
          </a:xfrm>
          <a:prstGeom prst="rect">
            <a:avLst/>
          </a:prstGeom>
          <a:ln w="0">
            <a:noFill/>
          </a:ln>
        </p:spPr>
      </p:pic>
      <p:pic>
        <p:nvPicPr>
          <p:cNvPr id="148" name="" descr=""/>
          <p:cNvPicPr/>
          <p:nvPr/>
        </p:nvPicPr>
        <p:blipFill>
          <a:blip r:embed="rId2"/>
          <a:stretch/>
        </p:blipFill>
        <p:spPr>
          <a:xfrm>
            <a:off x="4114800" y="2286000"/>
            <a:ext cx="365616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word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lemedic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der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nsor net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igBe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andy dispens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bed a RKE with strong encryption such as Microchip’s KeeLoq rolling cod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ovable tray for clea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artments for different sized pill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illbox:</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y other sensors such as pressure, weight, capacitance to detect pills reliabl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missing pulse detection to prevent ambient light interferenc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tilt, motion, e-field sensors to report handling and to prevent pill status erro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ture Enhancement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used with a cellular phon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d the notification number(s) from the phone (it was hard-coded in the prototyp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multiple numbers for notifying several caregiver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real time clock for daily summaries instead of real-time event report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hancements (con’t)</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and the SMS (text messaging) command processing to a full chat script similar to UUCP or modem dialers to support other command se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vert from polling to interrupt based I/O with watchdog timer to prevent blocking if communications fa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hancements (con’t)</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connected to a PC via wireless link</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a secure communications protocol for authentication and to prevent injection of false data into the data collection system.</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gitally sign the status so the archives are nonrepudiable.</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essed buttons for restricted activities such as firmware up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nsor wish-list</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deal sensor is one that requires no power to sense the activity (container open/close) but holds the state until read and electrically reset.  A latching magnetic reed switch is too large for this application.  A MEMS bistable switch would be ideal if latched by a magnet or other external for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tags can be tiny</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tachi Mu chip: 2.45 GHz, 128 bit RO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antable RFID: 125 kHz, 54 bit ROM</a:t>
            </a:r>
            <a:endParaRPr b="0" lang="en-US" sz="3200" spc="-1" strike="noStrike">
              <a:solidFill>
                <a:srgbClr val="ffffff"/>
              </a:solidFill>
              <a:latin typeface="Garamond"/>
            </a:endParaRPr>
          </a:p>
        </p:txBody>
      </p:sp>
      <p:pic>
        <p:nvPicPr>
          <p:cNvPr id="163" name="" descr=""/>
          <p:cNvPicPr/>
          <p:nvPr/>
        </p:nvPicPr>
        <p:blipFill>
          <a:blip r:embed="rId1"/>
          <a:stretch/>
        </p:blipFill>
        <p:spPr>
          <a:xfrm>
            <a:off x="685800" y="3581280"/>
            <a:ext cx="2228760" cy="2352960"/>
          </a:xfrm>
          <a:prstGeom prst="rect">
            <a:avLst/>
          </a:prstGeom>
          <a:ln w="0">
            <a:noFill/>
          </a:ln>
        </p:spPr>
      </p:pic>
      <p:pic>
        <p:nvPicPr>
          <p:cNvPr id="164" name="" descr=""/>
          <p:cNvPicPr/>
          <p:nvPr/>
        </p:nvPicPr>
        <p:blipFill>
          <a:blip r:embed="rId2"/>
          <a:stretch/>
        </p:blipFill>
        <p:spPr>
          <a:xfrm>
            <a:off x="3124080" y="3581280"/>
            <a:ext cx="4442040" cy="230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tiny?</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tags (particularly anti-theft tags) are already embedded into devices and containers where the customer may not know they exist.  They have no “off” switch and are often hard to remov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Privacy</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records are confidential.  Data generated at home is often shared with caregivers and doctors thus the need for data assurance.  HIPAA applies to the data once shared, but the patient ought to be empowered to set the sharing poli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blocking</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mporary or permanent deactiv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zapper”, removal, sever the antenn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manent kill command vs. reversible sleep/wake comman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A block tag: interferes with tree walking algorithm: replies to all addresses, or just a subtre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your medicine!</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tion compliance (taking one’s medicine as prescribed) is a major concern because it is a leading cause of preventable hospitaliz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5% of hospital admissions can attributed to drug therapy noncomplian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atient deaths due to medication errors increased by 8.48-fold in the U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391 died in 1993 due to medication error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Guardian</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NT in your pocke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www.rfidguardian.or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obile battery-powered device that offers personal RFI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diting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ey managemen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ss control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thenticatio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FID Guardian</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s full control of RFID activity within your personal spac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cation aware: different profiles depending on circumstance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ification of RFID scanning</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t trail of all activit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s per-tag access, blocking or proxy</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powers total control of all personal RFI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many aspects to medical assistance, particularly how to control access and dissemination of personal data.  Data assurance must be designed into the system from inception if it is to be trusted and resist attacks.  A smart pill dispenser is just the tip of the iceber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Thank you!</a:t>
            </a:r>
            <a:endParaRPr b="1" lang="en-US" sz="6000" spc="-1" strike="noStrike">
              <a:solidFill>
                <a:srgbClr val="e5e5ff"/>
              </a:solidFill>
              <a:latin typeface="Garamond"/>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Questions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re are many pill dispensers to help you remember your meds</a:t>
            </a: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8" name="" descr=""/>
          <p:cNvPicPr/>
          <p:nvPr/>
        </p:nvPicPr>
        <p:blipFill>
          <a:blip r:embed="rId1"/>
          <a:stretch/>
        </p:blipFill>
        <p:spPr>
          <a:xfrm>
            <a:off x="457200" y="1600200"/>
            <a:ext cx="2751120" cy="2781360"/>
          </a:xfrm>
          <a:prstGeom prst="rect">
            <a:avLst/>
          </a:prstGeom>
          <a:ln w="0">
            <a:noFill/>
          </a:ln>
        </p:spPr>
      </p:pic>
      <p:pic>
        <p:nvPicPr>
          <p:cNvPr id="109" name="" descr=""/>
          <p:cNvPicPr/>
          <p:nvPr/>
        </p:nvPicPr>
        <p:blipFill>
          <a:blip r:embed="rId2"/>
          <a:stretch/>
        </p:blipFill>
        <p:spPr>
          <a:xfrm>
            <a:off x="6781680" y="1600200"/>
            <a:ext cx="1828800" cy="1800360"/>
          </a:xfrm>
          <a:prstGeom prst="rect">
            <a:avLst/>
          </a:prstGeom>
          <a:ln w="0">
            <a:noFill/>
          </a:ln>
        </p:spPr>
      </p:pic>
      <p:pic>
        <p:nvPicPr>
          <p:cNvPr id="110" name="" descr=""/>
          <p:cNvPicPr/>
          <p:nvPr/>
        </p:nvPicPr>
        <p:blipFill>
          <a:blip r:embed="rId3"/>
          <a:stretch/>
        </p:blipFill>
        <p:spPr>
          <a:xfrm>
            <a:off x="5638680" y="3581280"/>
            <a:ext cx="2741760" cy="2511720"/>
          </a:xfrm>
          <a:prstGeom prst="rect">
            <a:avLst/>
          </a:prstGeom>
          <a:ln w="0">
            <a:noFill/>
          </a:ln>
        </p:spPr>
      </p:pic>
      <p:pic>
        <p:nvPicPr>
          <p:cNvPr id="111" name="" descr=""/>
          <p:cNvPicPr/>
          <p:nvPr/>
        </p:nvPicPr>
        <p:blipFill>
          <a:blip r:embed="rId4"/>
          <a:stretch/>
        </p:blipFill>
        <p:spPr>
          <a:xfrm>
            <a:off x="3276720" y="1600200"/>
            <a:ext cx="2190600" cy="39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d some transmit their statu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they are very expensive</a:t>
            </a:r>
            <a:endParaRPr b="0" lang="en-US" sz="3200" spc="-1" strike="noStrike">
              <a:solidFill>
                <a:srgbClr val="ffffff"/>
              </a:solidFill>
              <a:latin typeface="Garamond"/>
            </a:endParaRPr>
          </a:p>
        </p:txBody>
      </p:sp>
      <p:pic>
        <p:nvPicPr>
          <p:cNvPr id="114" name="" descr=""/>
          <p:cNvPicPr/>
          <p:nvPr/>
        </p:nvPicPr>
        <p:blipFill>
          <a:blip r:embed="rId1"/>
          <a:stretch/>
        </p:blipFill>
        <p:spPr>
          <a:xfrm>
            <a:off x="838080" y="2590920"/>
            <a:ext cx="758196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ope of projec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otype low cost methods for remote medication complianc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it modular for allow configuration flexibility and cost control</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Play nicely with others” (participate in larger monitoring system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earch the responsibilities of data control once gather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aby Monitor” model</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rel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co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ppliance: little to no user interfa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wner controls the operation and cos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Overload!</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nse activity in related are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ces in low power embedded devices, sensors &amp; cryptograp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FID deployment, standardization and manda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bicomp has come of age- wireless networks are ubiquitous (WAN, WiFi, PA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rdisciplinary approach</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alue added” to this thesis is the breadth of research and correlation of concerns and requirements to technological solu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19:00:11Z</dcterms:created>
  <dc:creator>meepy ferret</dc:creator>
  <dc:description/>
  <dc:language>en-US</dc:language>
  <cp:lastModifiedBy>meepy ferret</cp:lastModifiedBy>
  <dcterms:modified xsi:type="dcterms:W3CDTF">2006-08-28T02:44:54Z</dcterms:modified>
  <cp:revision>7</cp:revision>
  <dc:subject/>
  <dc:title>A Wireless Method For Monitoring Medication Compliance</dc:title>
</cp:coreProperties>
</file>