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13.jpeg" ContentType="image/jpeg"/>
  <Override PartName="/ppt/media/image9.jpeg" ContentType="image/jpe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8913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6ECE85C-4D87-4646-8EF0-C6CF17DF58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2CBD9DC-269D-441F-8A40-EED8D0C99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5D89D4F-AE2B-4E21-A3D6-6534AE9203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4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77FDDBE-DB4E-4F7E-B735-62FE063703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ACCB9A-3CCB-49B1-B106-B04B6FCDE5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CEAD81-1D8D-48AE-8B8A-42702A2C2F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CCC133-3F8F-400F-9618-620B19A877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18C35C-6D50-4E9F-ACC6-606CA602F1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74FB97-6D7B-4F64-BB8C-F9F91B3E8A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76495D-D468-4F33-9039-DEB5BA39A5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A05C08-B8EB-45AF-9163-69EAED75F0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A05A048-40A9-4E47-A01C-929937133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00BE3-677F-4C9F-978D-52CFE294A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691016-4AFD-417C-952A-A50432E1D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C2E379-2ECE-4E3A-8493-FCC9AB90B4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969747-CF96-487F-B2C5-08A0BC4F54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9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B52782-970E-4E90-94E5-7F637A58BF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494DBA5-51CB-4542-AD97-6D87D51FB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E36E448-D7E5-4568-A5CE-1EE021A50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95FF10B-8EFE-4C8F-B400-DB233D58F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7716B0D-175E-44B2-8D19-5717D8EFC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22AFB60-B30F-4013-9240-971BA6662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8D1C4A7-162D-4DB5-BF08-56B3FF7DA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DD3C628-498D-4614-9D21-3AD9774FBE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DA187-372F-463D-92D2-DE5848E889E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03269-75AD-4493-B02B-309D57D0562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www.rfidguardian.org/" TargetMode="Externa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 Wireless Method For Monitoring Medication Compliance</a:t>
            </a:r>
            <a:endParaRPr b="1" lang="en-US" sz="44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thesis by</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effrey S. Jonas</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r. Manikopoulos, advisor</a:t>
            </a:r>
            <a:endParaRPr b="0" lang="en-US" sz="32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tegrate new technologies</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ireless networks are small and easy to integrate, and come in all sizes (WAN, PA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MS enables accurate, continuous monitoring of things that were previously unobservable.  Closed loop control systems can now be applied to medicin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elemedicine integrates many inputs</a:t>
            </a:r>
            <a:endParaRPr b="1" lang="en-US" sz="40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7" name="" descr=""/>
          <p:cNvPicPr/>
          <p:nvPr/>
        </p:nvPicPr>
        <p:blipFill>
          <a:blip r:embed="rId1"/>
          <a:stretch/>
        </p:blipFill>
        <p:spPr>
          <a:xfrm>
            <a:off x="457200" y="1600200"/>
            <a:ext cx="3456000" cy="4572000"/>
          </a:xfrm>
          <a:prstGeom prst="rect">
            <a:avLst/>
          </a:prstGeom>
          <a:ln w="0">
            <a:noFill/>
          </a:ln>
        </p:spPr>
      </p:pic>
      <p:pic>
        <p:nvPicPr>
          <p:cNvPr id="128" name="" descr=""/>
          <p:cNvPicPr/>
          <p:nvPr/>
        </p:nvPicPr>
        <p:blipFill>
          <a:blip r:embed="rId2"/>
          <a:stretch/>
        </p:blipFill>
        <p:spPr>
          <a:xfrm>
            <a:off x="3886200" y="1600200"/>
            <a:ext cx="4818240" cy="4568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FID buzz</a:t>
            </a: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FID is the "next big thing" for inventory tracking.  The pharmaceutical industry is exploring RFID to thwart counterfeiting, in addition to U.S. government mandates.</a:t>
            </a: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VS’ “Jump Start” RFID trial was coordinated with the AUTO-ID Center with HIPAA and privacy concerns from the star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Drug Counterfeiting</a:t>
            </a:r>
            <a:endParaRPr b="1" lang="en-US" sz="6000" spc="-1" strike="noStrike">
              <a:solidFill>
                <a:srgbClr val="e5e5ff"/>
              </a:solidFill>
              <a:latin typeface="Garamond"/>
            </a:endParaRPr>
          </a:p>
        </p:txBody>
      </p:sp>
      <p:sp>
        <p:nvSpPr>
          <p:cNvPr id="13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 descr=""/>
          <p:cNvPicPr/>
          <p:nvPr/>
        </p:nvPicPr>
        <p:blipFill>
          <a:blip r:embed="rId1"/>
          <a:stretch/>
        </p:blipFill>
        <p:spPr>
          <a:xfrm>
            <a:off x="1143000" y="1676520"/>
            <a:ext cx="6721560" cy="4716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or Research</a:t>
            </a: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Magic medicine Cabine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Kenneth Fishkin’s work at Intel Research Seattle: exploring man/machine interface with UbiComp, RFID (linking physical objects to the virtual word), RFID privacy, eldercare, RFID in healthcare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ishkin Medicine Monitoring Pad</a:t>
            </a:r>
            <a:endParaRPr b="1" lang="en-US" sz="40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pic>
        <p:nvPicPr>
          <p:cNvPr id="138" name="" descr=""/>
          <p:cNvPicPr/>
          <p:nvPr/>
        </p:nvPicPr>
        <p:blipFill>
          <a:blip r:embed="rId1"/>
          <a:stretch/>
        </p:blipFill>
        <p:spPr>
          <a:xfrm>
            <a:off x="2666880" y="1523880"/>
            <a:ext cx="3884760" cy="4573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Prototypes</a:t>
            </a:r>
            <a:endParaRPr b="1" lang="en-US" sz="44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dified Candy Dispenser</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ses COTS part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ransmitters may be similar to wireless mice, keyboards, game controller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KE (Remote Keyless Entry) fobs offer a variety of security</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totype #2</a:t>
            </a:r>
            <a:endParaRPr b="1" lang="en-US" sz="4400" spc="-1" strike="noStrike">
              <a:solidFill>
                <a:srgbClr val="e5e5ff"/>
              </a:solidFill>
              <a:latin typeface="Garamond"/>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pillbox was modified to detect pills in 3 different way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witch</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flective optical sensor</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electric ey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2 modes of operation</a:t>
            </a:r>
            <a:endParaRPr b="1" lang="en-US" sz="4400" spc="-1" strike="noStrike">
              <a:solidFill>
                <a:srgbClr val="e5e5ff"/>
              </a:solidFill>
              <a:latin typeface="Garamond"/>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sensors are monitored by a PIC 18f252 microcontroller.</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necting a cellular phone to the RS232 port enables stand-alone operation by transmitting change of container status via SMS (text message)</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wired or wireless connection to a PC is also supported for data collection and forwarding</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totype demonstration</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pic>
        <p:nvPicPr>
          <p:cNvPr id="147" name="" descr=""/>
          <p:cNvPicPr/>
          <p:nvPr/>
        </p:nvPicPr>
        <p:blipFill>
          <a:blip r:embed="rId1"/>
          <a:stretch/>
        </p:blipFill>
        <p:spPr>
          <a:xfrm>
            <a:off x="914400" y="2666880"/>
            <a:ext cx="2741760" cy="2162160"/>
          </a:xfrm>
          <a:prstGeom prst="rect">
            <a:avLst/>
          </a:prstGeom>
          <a:ln w="0">
            <a:noFill/>
          </a:ln>
        </p:spPr>
      </p:pic>
      <p:pic>
        <p:nvPicPr>
          <p:cNvPr id="148" name="" descr=""/>
          <p:cNvPicPr/>
          <p:nvPr/>
        </p:nvPicPr>
        <p:blipFill>
          <a:blip r:embed="rId2"/>
          <a:stretch/>
        </p:blipFill>
        <p:spPr>
          <a:xfrm>
            <a:off x="4114800" y="2286000"/>
            <a:ext cx="3656160" cy="27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keywords</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elemedicin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ldercar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FI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nsor network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ZigBe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uture Enhancements</a:t>
            </a: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candy dispenser:</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mbed a RKE with strong encryption such as Microchip’s KeeLoq rolling cod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movable tray for clean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mpartments for different sized pill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uture Enhancements</a:t>
            </a:r>
            <a:endParaRPr b="1" lang="en-US" sz="4400" spc="-1" strike="noStrike">
              <a:solidFill>
                <a:srgbClr val="e5e5ff"/>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pillbox:</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ry other sensors such as pressure, weight, capacitance to detect pills reliably.</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se missing pulse detection to prevent ambient light interference</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d tilt, motion, e-field sensors to report handling and to prevent pill status error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uture Enhancements</a:t>
            </a: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n used with a cellular phone</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ad the notification number(s) from the phone (it was hard-coded in the prototype).</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low multiple numbers for notifying several caregivers</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d real time clock for daily summaries instead of real-time event reporting</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nhancements (con’t)</a:t>
            </a:r>
            <a:endParaRPr b="1" lang="en-US" sz="4400" spc="-1" strike="noStrike">
              <a:solidFill>
                <a:srgbClr val="e5e5ff"/>
              </a:solidFill>
              <a:latin typeface="Garamond"/>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pand the SMS (text messaging) command processing to a full chat script similar to UUCP or modem dialers to support other command set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vert from polling to interrupt based I/O with watchdog timer to prevent blocking if communications fai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nhancements (con’t)</a:t>
            </a: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572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n connected to a PC via wireless link</a:t>
            </a:r>
            <a:endParaRPr b="0" lang="en-US" sz="3200" spc="-1" strike="noStrike">
              <a:solidFill>
                <a:srgbClr val="ffffff"/>
              </a:solidFill>
              <a:latin typeface="Garamond"/>
            </a:endParaRPr>
          </a:p>
          <a:p>
            <a:pPr marL="572760" indent="-5727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se a secure communications protocol for authentication and to prevent injection of false data into the data collection system.</a:t>
            </a:r>
            <a:endParaRPr b="0" lang="en-US" sz="3200" spc="-1" strike="noStrike">
              <a:solidFill>
                <a:srgbClr val="ffffff"/>
              </a:solidFill>
              <a:latin typeface="Garamond"/>
            </a:endParaRPr>
          </a:p>
          <a:p>
            <a:pPr marL="572760" indent="-5727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gitally sign the status so the archives are nonrepudiable.</a:t>
            </a:r>
            <a:endParaRPr b="0" lang="en-US" sz="3200" spc="-1" strike="noStrike">
              <a:solidFill>
                <a:srgbClr val="ffffff"/>
              </a:solidFill>
              <a:latin typeface="Garamond"/>
            </a:endParaRPr>
          </a:p>
          <a:p>
            <a:pPr marL="572760" indent="-5727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cessed buttons for restricted activities such as firmware upgrad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ensor wish-list</a:t>
            </a: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ideal sensor is one that requires no power to sense the activity (container open/close) but holds the state until read and electrically reset.  A latching magnetic reed switch is too large for this application.  A MEMS bistable switch would be ideal if latched by a magnet or other external forc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FID tags can be tiny</a:t>
            </a:r>
            <a:endParaRPr b="1" lang="en-US" sz="4400" spc="-1" strike="noStrike">
              <a:solidFill>
                <a:srgbClr val="e5e5ff"/>
              </a:solidFill>
              <a:latin typeface="Garamond"/>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itachi Mu chip: 2.45 GHz, 128 bit ROM</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mplantable RFID: 125 kHz, 54 bit ROM</a:t>
            </a:r>
            <a:endParaRPr b="0" lang="en-US" sz="3200" spc="-1" strike="noStrike">
              <a:solidFill>
                <a:srgbClr val="ffffff"/>
              </a:solidFill>
              <a:latin typeface="Garamond"/>
            </a:endParaRPr>
          </a:p>
        </p:txBody>
      </p:sp>
      <p:pic>
        <p:nvPicPr>
          <p:cNvPr id="163" name="" descr=""/>
          <p:cNvPicPr/>
          <p:nvPr/>
        </p:nvPicPr>
        <p:blipFill>
          <a:blip r:embed="rId1"/>
          <a:stretch/>
        </p:blipFill>
        <p:spPr>
          <a:xfrm>
            <a:off x="685800" y="3581280"/>
            <a:ext cx="2228760" cy="2352960"/>
          </a:xfrm>
          <a:prstGeom prst="rect">
            <a:avLst/>
          </a:prstGeom>
          <a:ln w="0">
            <a:noFill/>
          </a:ln>
        </p:spPr>
      </p:pic>
      <p:pic>
        <p:nvPicPr>
          <p:cNvPr id="164" name="" descr=""/>
          <p:cNvPicPr/>
          <p:nvPr/>
        </p:nvPicPr>
        <p:blipFill>
          <a:blip r:embed="rId2"/>
          <a:stretch/>
        </p:blipFill>
        <p:spPr>
          <a:xfrm>
            <a:off x="3124080" y="3581280"/>
            <a:ext cx="4442040" cy="2309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ow tiny?</a:t>
            </a:r>
            <a:endParaRPr b="1" lang="en-US" sz="4400" spc="-1" strike="noStrike">
              <a:solidFill>
                <a:srgbClr val="e5e5ff"/>
              </a:solidFill>
              <a:latin typeface="Garamond"/>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FID tags (particularly anti-theft tags) are already embedded into devices and containers where the customer may not know they exist.  They have no “off” switch and are often hard to remov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FID Privacy</a:t>
            </a:r>
            <a:endParaRPr b="1" lang="en-US" sz="4400" spc="-1" strike="noStrike">
              <a:solidFill>
                <a:srgbClr val="e5e5ff"/>
              </a:solidFill>
              <a:latin typeface="Garamond"/>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dical records are confidential.  Data generated at home is often shared with caregivers and doctors thus the need for data assurance.  HIPAA applies to the data once shared, but the patient ought to be empowered to set the sharing polic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FID blocking</a:t>
            </a:r>
            <a:endParaRPr b="1" lang="en-US" sz="4400" spc="-1" strike="noStrike">
              <a:solidFill>
                <a:srgbClr val="e5e5ff"/>
              </a:solidFill>
              <a:latin typeface="Garamond"/>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emporary or permanent deactiva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zapper”, removal, sever the antenn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ermanent kill command vs. reversible sleep/wake command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SA block tag: interferes with tree walking algorithm: replies to all addresses, or just a subtre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ake your medicine!</a:t>
            </a:r>
            <a:endParaRPr b="1" lang="en-US" sz="44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dication compliance (taking one’s medicine as prescribed) is a major concern because it is a leading cause of preventable hospitalization.</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5% of hospital admissions can attributed to drug therapy noncompliance</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utpatient deaths due to medication errors increased by 8.48-fold in the US</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7391 died in 1993 due to medication error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FID Guardian</a:t>
            </a:r>
            <a:endParaRPr b="1" lang="en-US" sz="4400" spc="-1" strike="noStrike">
              <a:solidFill>
                <a:srgbClr val="e5e5ff"/>
              </a:solidFill>
              <a:latin typeface="Garamon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LINT in your pocke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Garamond"/>
                <a:hlinkClick r:id="rId1"/>
              </a:rPr>
              <a:t>http://www.rfidguardian.or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mobile battery-powered device that offers personal RFID</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uditing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Key management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ccess control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uthentication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FID Guardian</a:t>
            </a:r>
            <a:endParaRPr b="1" lang="en-US" sz="4400" spc="-1" strike="noStrike">
              <a:solidFill>
                <a:srgbClr val="e5e5ff"/>
              </a:solidFill>
              <a:latin typeface="Garamond"/>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lows full control of RFID activity within your personal space</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ocation aware: different profiles depending on circumstances</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tification of RFID scanning</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udit trail of all activity</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lows per-tag access, blocking or proxy</a:t>
            </a:r>
            <a:endParaRPr b="0" lang="en-US" sz="3200" spc="-1" strike="noStrike">
              <a:solidFill>
                <a:srgbClr val="ffffff"/>
              </a:solidFill>
              <a:latin typeface="Garamond"/>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mpowers total control of all personal RFI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clusions</a:t>
            </a:r>
            <a:endParaRPr b="1" lang="en-US" sz="4400" spc="-1" strike="noStrike">
              <a:solidFill>
                <a:srgbClr val="e5e5ff"/>
              </a:solidFill>
              <a:latin typeface="Garamond"/>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re are many aspects to medical assistance, particularly how to control access and dissemination of personal data.  Data assurance must be designed into the system from inception if it is to be trusted and resist attacks.  A smart pill dispenser is just the tip of the iceberg.</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Thank you!</a:t>
            </a:r>
            <a:endParaRPr b="1" lang="en-US" sz="6000" spc="-1" strike="noStrike">
              <a:solidFill>
                <a:srgbClr val="e5e5ff"/>
              </a:solidFill>
              <a:latin typeface="Garamond"/>
            </a:endParaRPr>
          </a:p>
        </p:txBody>
      </p:sp>
      <p:sp>
        <p:nvSpPr>
          <p:cNvPr id="17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Questions ?</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here are many pill dispensers to help you remember your meds</a:t>
            </a:r>
            <a:endParaRPr b="1" lang="en-US" sz="40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08" name="" descr=""/>
          <p:cNvPicPr/>
          <p:nvPr/>
        </p:nvPicPr>
        <p:blipFill>
          <a:blip r:embed="rId1"/>
          <a:stretch/>
        </p:blipFill>
        <p:spPr>
          <a:xfrm>
            <a:off x="457200" y="1600200"/>
            <a:ext cx="2751120" cy="2781360"/>
          </a:xfrm>
          <a:prstGeom prst="rect">
            <a:avLst/>
          </a:prstGeom>
          <a:ln w="0">
            <a:noFill/>
          </a:ln>
        </p:spPr>
      </p:pic>
      <p:pic>
        <p:nvPicPr>
          <p:cNvPr id="109" name="" descr=""/>
          <p:cNvPicPr/>
          <p:nvPr/>
        </p:nvPicPr>
        <p:blipFill>
          <a:blip r:embed="rId2"/>
          <a:stretch/>
        </p:blipFill>
        <p:spPr>
          <a:xfrm>
            <a:off x="6781680" y="1600200"/>
            <a:ext cx="1828800" cy="1800360"/>
          </a:xfrm>
          <a:prstGeom prst="rect">
            <a:avLst/>
          </a:prstGeom>
          <a:ln w="0">
            <a:noFill/>
          </a:ln>
        </p:spPr>
      </p:pic>
      <p:pic>
        <p:nvPicPr>
          <p:cNvPr id="110" name="" descr=""/>
          <p:cNvPicPr/>
          <p:nvPr/>
        </p:nvPicPr>
        <p:blipFill>
          <a:blip r:embed="rId3"/>
          <a:stretch/>
        </p:blipFill>
        <p:spPr>
          <a:xfrm>
            <a:off x="5638680" y="3581280"/>
            <a:ext cx="2741760" cy="2511720"/>
          </a:xfrm>
          <a:prstGeom prst="rect">
            <a:avLst/>
          </a:prstGeom>
          <a:ln w="0">
            <a:noFill/>
          </a:ln>
        </p:spPr>
      </p:pic>
      <p:pic>
        <p:nvPicPr>
          <p:cNvPr id="111" name="" descr=""/>
          <p:cNvPicPr/>
          <p:nvPr/>
        </p:nvPicPr>
        <p:blipFill>
          <a:blip r:embed="rId4"/>
          <a:stretch/>
        </p:blipFill>
        <p:spPr>
          <a:xfrm>
            <a:off x="3276720" y="1600200"/>
            <a:ext cx="2190600" cy="3994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d some transmit their status</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ut they are very expensive</a:t>
            </a:r>
            <a:endParaRPr b="0" lang="en-US" sz="3200" spc="-1" strike="noStrike">
              <a:solidFill>
                <a:srgbClr val="ffffff"/>
              </a:solidFill>
              <a:latin typeface="Garamond"/>
            </a:endParaRPr>
          </a:p>
        </p:txBody>
      </p:sp>
      <p:pic>
        <p:nvPicPr>
          <p:cNvPr id="114" name="" descr=""/>
          <p:cNvPicPr/>
          <p:nvPr/>
        </p:nvPicPr>
        <p:blipFill>
          <a:blip r:embed="rId1"/>
          <a:stretch/>
        </p:blipFill>
        <p:spPr>
          <a:xfrm>
            <a:off x="838080" y="2590920"/>
            <a:ext cx="7581960" cy="4267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cope of project</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totype low cost methods for remote medication compliance</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ke it modular for allow configuration flexibility and cost control</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Play nicely with others” (participate in larger monitoring systems)</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earch the responsibilities of data control once gathere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Baby Monitor” model</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ireles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ow cos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 appliance: little to no user interfac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wner controls the operation and cos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formation Overload!</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tense activity in related area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vances in low power embedded devices, sensors &amp; cryptograph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FID deployment, standardization and mandat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bicomp has come of age- wireless networks are ubiquitous (WAN, WiFi, PA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terdisciplinary approach</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value added” to this thesis is the breadth of research and correlation of concerns and requirements to technological solution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7T19:00:11Z</dcterms:created>
  <dc:creator>meepy ferret</dc:creator>
  <dc:description/>
  <dc:language>en-US</dc:language>
  <cp:lastModifiedBy>meepy ferret</cp:lastModifiedBy>
  <dcterms:modified xsi:type="dcterms:W3CDTF">2006-08-28T02:44:54Z</dcterms:modified>
  <cp:revision>7</cp:revision>
  <dc:subject/>
  <dc:title>A Wireless Method For Monitoring Medication Compliance</dc:title>
</cp:coreProperties>
</file>